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3F59-5A18-4073-BD28-1B86BB7D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E39-8493-4D7C-8D28-2A2455C2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DACC-387D-42F6-81A2-D61DC85D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E85A-8C57-4053-BB60-4BECEE3B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35A4-A42B-485D-B83F-179F81FC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E607-1F8D-4842-AFBA-42E874E5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80BC-304B-44F5-BDF6-8EF3CDBB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34CF-22C1-4F4C-A25A-71F5995E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07B7-F34F-4F53-A1D1-368AF8D7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C902-19FB-4A10-81A5-4C8129B3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82B9-6A36-4AD1-9434-78BAD997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4CC-7A18-4C9A-88A0-44A2C8AB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0604-1DEF-450A-9BAB-F2F8B98B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C877-BD74-48BE-B190-F485848B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3F93-4EC4-407B-9455-AC2BE4AD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1062-C3C8-4360-BDE9-054B9159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4D03-4DDA-4709-A917-85F4390B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FB9-7864-45B4-9B6B-AA7AB672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0D0-4135-487E-A8CC-5846976C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4327-B675-4233-81F7-454D0493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89A-A955-454A-B871-E6DF345B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25E-5194-4CB6-A6BA-C1AF637E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FEA-4135-4488-B883-284A0310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273-7ACF-445B-8C46-063E559B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52DE-40F7-40BC-99EE-A255721EF3E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00C9-F040-4C3C-A0E7-732426355D4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ternet Search Techniqu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nding What You’re Looking Fo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rst, Ask a Question . . 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earch Ques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ing a good search question is half the bat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es of questio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fic: you want the answer to a specific ques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en-ended: you want to find out all you can on a specific sub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Search Too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eng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recto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a-search eng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r re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arch Engi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Web page that finds other Web p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us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ter a keyword or search expression and click a but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view search resul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desired, refine the sear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olean Opera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ystem of logical operators that allow you to specify relationships between search wo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us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AND to find all search te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OR to find either search te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NOT to eliminate some portion of search results for the keywo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recto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list of hyperlinks organized into catego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us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on the category link to display links within the categ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inue to click more specific links until you locate the subject of your sear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ta-Search Engi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tools that submit a search to more than one engine at a 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us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ter a keyword or search expre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fy which search engines to u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view search results from each eng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3T19:52:00Z</dcterms:created>
  <dc:creator>Cat Skintik</dc:creator>
  <dc:description/>
  <dc:language>en-US</dc:language>
  <cp:lastModifiedBy>Julie Hotchkiss</cp:lastModifiedBy>
  <dcterms:modified xsi:type="dcterms:W3CDTF">2004-09-23T11:48:19Z</dcterms:modified>
  <cp:revision>7</cp:revision>
  <dc:subject/>
  <dc:title>Internet Searching Techniques</dc:title>
</cp:coreProperties>
</file>